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1B71D-2411-45A4-809A-FFFF36BA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D1D60-61D7-4D72-8446-EAACB5D4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BCF0-C1A1-4314-8811-2E4D25C9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DA867-7FEE-4670-A9AA-58FA94DE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90FC-CC13-460D-9FD1-85E50B66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C297-EE16-466E-AF5E-E2644DE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2639-84ED-4673-BC43-4D2CA261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3898-5043-456B-8233-4F823A982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264C-4C08-47E1-B6D5-5F89522D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5A93-6764-4F41-A529-E21DA31C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D1E8-B716-4F33-91BD-A607729A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8504B-3609-4095-A9FE-7565FE02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9F22A-ADD2-4331-A03B-89B969B3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07CE-B94B-44D0-91C5-0275576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3942-2AA6-42D5-BCC8-0D8ADDC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EE7C-CA04-4830-A968-4CAF56512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8EF5-D063-4AC5-A965-69912256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3D833-1031-456F-91FA-F4727560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B897-429D-40BE-9239-7ACC6962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178A7-6356-4BD6-ACFB-A5DF30C4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B7A8-963A-44AD-B84E-26DF1AB7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BA826-8C64-473D-886A-161DE8C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67071-3AE2-45CC-97BF-B83843364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F7311-535B-4859-AF64-92443C99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87D9-32BD-4E93-BE87-62E323CD9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8EB3-1EB1-4C2A-AAF3-C99805B9EF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the roles of the committ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39720" y="2085840"/>
          <a:ext cx="783432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085840"/>
                    <a:ext cx="78343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C0E6-80CF-4B66-83E6-F50F0075A83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:  Exec Comm. vs. cBIO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104840" y="1444680"/>
          <a:ext cx="5921280" cy="42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1444680"/>
                    <a:ext cx="592128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6E9DC-7B2A-499B-8BF3-F3532D5B3E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5:36:56Z</dcterms:created>
  <dc:creator>klinnihan</dc:creator>
  <dc:description/>
  <dc:language>en-US</dc:language>
  <cp:lastModifiedBy>Sima Misra</cp:lastModifiedBy>
  <cp:lastPrinted>2005-06-01T19:24:06Z</cp:lastPrinted>
  <dcterms:modified xsi:type="dcterms:W3CDTF">2005-09-29T19:34:11Z</dcterms:modified>
  <cp:revision>49</cp:revision>
  <dc:subject/>
  <dc:title>Strategic Sele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4845545</vt:r8>
  </property>
  <property fmtid="{D5CDD505-2E9C-101B-9397-08002B2CF9AE}" pid="3" name="_AuthorEmail">
    <vt:lpwstr>uman9@comcast.net</vt:lpwstr>
  </property>
  <property fmtid="{D5CDD505-2E9C-101B-9397-08002B2CF9AE}" pid="4" name="_AuthorEmailDisplayName">
    <vt:lpwstr>Ulrich Nettesheim</vt:lpwstr>
  </property>
  <property fmtid="{D5CDD505-2E9C-101B-9397-08002B2CF9AE}" pid="5" name="_EmailSubject">
    <vt:lpwstr>Head Search Mtg. 5/31</vt:lpwstr>
  </property>
</Properties>
</file>